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7.wmf" ContentType="image/x-wmf"/>
  <Override PartName="/ppt/media/image34.wmf" ContentType="image/x-wmf"/>
  <Override PartName="/ppt/media/image37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39.jpeg" ContentType="image/jpeg"/>
  <Override PartName="/ppt/media/image41.jpeg" ContentType="image/jpeg"/>
  <Override PartName="/ppt/media/image43.png" ContentType="image/png"/>
  <Override PartName="/ppt/media/image33.png" ContentType="image/png"/>
  <Override PartName="/ppt/media/image44.wmf" ContentType="image/x-wmf"/>
  <Override PartName="/ppt/media/image45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F7C-6564-4368-A045-A74538FCEEF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CDAE-F736-4A55-A3A9-F4E1939A61C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A165-0549-494A-A2D2-31DE16FA350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CD18-BF00-4F18-9752-A529212EB37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2CE8-36DD-4BB5-8D49-902AB68858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CD00-9C44-4C76-84E6-C75AE620FA5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3F84-4AC9-4EDB-9F42-10CB7A8C15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7211-0BEC-4779-B2A8-50B2B893C17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5820-7C39-46E3-A39E-A689778E515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052-F4FE-4FDC-8CC6-8630B35B0E9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A34-A692-4F01-89F7-8D45436830D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FDD5-41BB-44DD-B5F2-F9D3AC91145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8F5B-963F-43FC-91EE-2094CCBDC57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BB68-1DD2-4A01-A8D9-98843349EE0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ACA3-6697-4F52-85C1-D9990C305D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344D-EC24-4A4C-A0AD-1C5D568D6C8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7DE-491E-4079-BC71-DC0ADCE022B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0A5-F51B-43FB-94CA-449CC3133A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3D2F-97E7-4E3C-9618-6FA39905DCE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C428-C43F-4C1A-92A4-E7AADA5E799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09E-CC3E-44A8-932A-88AABA008D3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6FB-7B73-4B97-8AD5-A8BC3CA9371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8CB8-0324-4855-B5C3-19C44B92E99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F2A-D1B3-4BB3-8E5C-BDECBD6E26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2B7D-F279-4D0C-B461-64CF1A61DB3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40A-260B-46CA-94E5-40C20861E46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B1A5-4CFC-42F1-A62E-8BE66918C8A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B55B-5DB0-4F8F-9EB9-00979ADAC45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5364-D924-43C3-9FA7-99BFFD0C412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E71-D2EE-41B5-B09D-8C522D61497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9E70-37B3-416E-9D31-4B6A002AD4A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4C1-B97F-44CC-A538-D9BB6BF3B8C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8513-726C-4AF0-AF82-521EDABEA2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417-C57A-4F7E-BCCD-CB0F9560BA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DF9-62A0-4557-8806-8DD5A30FEB0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19D-8567-4BF1-8A99-C510250A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C41-9455-48FA-B3BE-3A597BB6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F3D-1E67-4DF6-A645-EB03FA97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4ED-ABDA-490A-96A7-5E1E401A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722-93B3-4D8E-980C-A86183AD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461-31EC-4E3B-8015-1EA95BD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557-BB3F-4AD3-A7A3-1C1E4FCF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040-93E9-493F-8E46-44B5960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9C4-64BC-4C03-B1DA-F961F0A9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C7D-C1AE-4E98-9FC8-E25E0F6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80D-3BAF-470A-B7A7-2C69BC8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183-0406-4A3B-ABC5-191480F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92A-8049-4634-B4CF-80992E533E2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3.wmf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181764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LLA 8: Metabolismo de Aminoácidos. Digestión y absorción de Proteínas. Catabolismo de aminoácidos. Transaminación. Desaminación oxidativa y no oxidativa.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1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2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10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1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328" name="Picture 12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29" name="Text Box 13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722520" y="393228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ayoría de vertebrados acuátic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3314880" y="414972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uchos vertebrados terrestres y tiburon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pájaros y repti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1 Rectángulo"/>
          <p:cNvSpPr/>
          <p:nvPr/>
        </p:nvSpPr>
        <p:spPr>
          <a:xfrm>
            <a:off x="533520" y="53960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n el ho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Urea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compuesto no tóxico y muy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 nivel renal parte del amoníaco se excreta como ión amonio siendo muy importante este mecanismo para el mantenimiento del equilibrio ácido-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3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3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1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9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346" name="Text Box 15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0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48" name="Text Box 14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2"/>
            <p:cNvSpPr/>
            <p:nvPr/>
          </p:nvSpPr>
          <p:spPr>
            <a:xfrm>
              <a:off x="1476360" y="321300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7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21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353" name="Text Box 16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0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36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356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Oval 7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2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3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4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365" name="Oval 15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6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7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368" name="Oval 18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9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0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72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73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7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8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29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0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381" name="Line 31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2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33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4"/>
          <p:cNvSpPr/>
          <p:nvPr/>
        </p:nvSpPr>
        <p:spPr>
          <a:xfrm flipH="1">
            <a:off x="4715640" y="1700280"/>
            <a:ext cx="505080" cy="28872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5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8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9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0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1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2"/>
          <p:cNvSpPr/>
          <p:nvPr/>
        </p:nvSpPr>
        <p:spPr>
          <a:xfrm>
            <a:off x="5003640" y="90792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3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05" name="Group 1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06" name="Rectangle 1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1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1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1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0" name="Picture 19" descr="logo UNSL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1" name="Text Box 2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7" name="Group 7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8" name="Rectangle 8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9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0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1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2" name="Picture 12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3" name="Text Box 13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26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27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2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1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1 Rectángulo"/>
          <p:cNvSpPr/>
          <p:nvPr/>
        </p:nvSpPr>
        <p:spPr>
          <a:xfrm>
            <a:off x="395280" y="765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xisten defectos genéticos en diferentes enzimas del ciclo de la Urea que llevan a una incapacidad para convertir amoníaco en urea 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Hiperamoniemias, Citrulinemia, Argininemia y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Los pacientes que tienen esta patología no pueden tolerar dietas ricas en proteí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n estos casos para suplementar los aminoácidos esenciales se incluyen en la dieta los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-cetoácidos análogos que constituyen la parte esencial de estos aminoá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4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0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11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457" name="Picture 12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458" name="Text Box 13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4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5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6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7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8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9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0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1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2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3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4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5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26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7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Oval 29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2"/>
          <p:cNvSpPr/>
          <p:nvPr/>
        </p:nvSpPr>
        <p:spPr>
          <a:xfrm>
            <a:off x="5076720" y="2637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3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4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5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83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84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1"/>
          <p:cNvSpPr/>
          <p:nvPr/>
        </p:nvSpPr>
        <p:spPr>
          <a:xfrm>
            <a:off x="2156760" y="533520"/>
            <a:ext cx="51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Me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67" name="Picture 10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68" name="Text Box 12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3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4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2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3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4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6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0"/>
          <p:cNvGrpSpPr/>
          <p:nvPr/>
        </p:nvGrpSpPr>
        <p:grpSpPr>
          <a:xfrm>
            <a:off x="1547640" y="1941840"/>
            <a:ext cx="4124160" cy="4917600"/>
            <a:chOff x="1547640" y="1941840"/>
            <a:chExt cx="4124160" cy="4917600"/>
          </a:xfrm>
        </p:grpSpPr>
        <p:sp>
          <p:nvSpPr>
            <p:cNvPr id="84" name="Oval 27"/>
            <p:cNvSpPr/>
            <p:nvPr/>
          </p:nvSpPr>
          <p:spPr>
            <a:xfrm rot="1249800">
              <a:off x="2340000" y="2276280"/>
              <a:ext cx="2663640" cy="4248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9"/>
            <p:cNvSpPr/>
            <p:nvPr/>
          </p:nvSpPr>
          <p:spPr>
            <a:xfrm rot="16200000">
              <a:off x="303120" y="4494960"/>
              <a:ext cx="31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tabolismo del nitróge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4356000" y="2637000"/>
            <a:ext cx="338292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5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9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9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9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499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00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8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9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16" name="Group 14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17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Text Box 11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12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13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15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32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524" name="Picture 2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6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31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32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7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539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546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5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3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5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5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0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565" name="Group 11"/>
            <p:cNvGrpSpPr/>
            <p:nvPr/>
          </p:nvGrpSpPr>
          <p:grpSpPr>
            <a:xfrm>
              <a:off x="1547640" y="907920"/>
              <a:ext cx="6146640" cy="5384520"/>
              <a:chOff x="1547640" y="907920"/>
              <a:chExt cx="6146640" cy="5384520"/>
            </a:xfrm>
          </p:grpSpPr>
          <p:pic>
            <p:nvPicPr>
              <p:cNvPr id="56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90792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3"/>
              <p:cNvSpPr/>
              <p:nvPr/>
            </p:nvSpPr>
            <p:spPr>
              <a:xfrm>
                <a:off x="2943000" y="14238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4"/>
              <p:cNvSpPr/>
              <p:nvPr/>
            </p:nvSpPr>
            <p:spPr>
              <a:xfrm>
                <a:off x="5462280" y="50097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15"/>
              <p:cNvSpPr/>
              <p:nvPr/>
            </p:nvSpPr>
            <p:spPr>
              <a:xfrm>
                <a:off x="4093920" y="28364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Text Box 16"/>
            <p:cNvSpPr/>
            <p:nvPr/>
          </p:nvSpPr>
          <p:spPr>
            <a:xfrm>
              <a:off x="2727000" y="61624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17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7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7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81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8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17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89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0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4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597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0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609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610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17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1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625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62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Line 18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9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0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30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636" name="Group 22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637" name="Group 20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638" name="Picture 2" descr=""/>
                <p:cNvPicPr/>
                <p:nvPr/>
              </p:nvPicPr>
              <p:blipFill>
                <a:blip r:embed="rId1"/>
                <a:srcRect l="35746" t="4792" r="0" b="12547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9" name="Rectangle 11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Rectangle 13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4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6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2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21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Text Box 28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48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49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3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4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24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5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  <p:sp>
        <p:nvSpPr>
          <p:cNvPr id="660" name="1 CuadroTexto"/>
          <p:cNvSpPr/>
          <p:nvPr/>
        </p:nvSpPr>
        <p:spPr>
          <a:xfrm>
            <a:off x="1006200" y="611172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  <a:ea typeface="Arial"/>
              </a:rPr>
              <a:t>MAO= Monoamino oxidasa- COMT= catecol-O-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Imagen 1" descr=""/>
          <p:cNvPicPr/>
          <p:nvPr/>
        </p:nvPicPr>
        <p:blipFill>
          <a:blip r:embed="rId1"/>
          <a:stretch/>
        </p:blipFill>
        <p:spPr>
          <a:xfrm>
            <a:off x="355680" y="1460520"/>
            <a:ext cx="84326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descarboxil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piridoxalfosfato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(PLP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65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66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0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1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  <a:ea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  <a:ea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  <a:ea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-aminobutirico (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GAB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6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7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1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2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85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86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1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693" name="Picture 13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14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7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696" name="Picture 16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15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59"/>
          <p:cNvGrpSpPr/>
          <p:nvPr/>
        </p:nvGrpSpPr>
        <p:grpSpPr>
          <a:xfrm>
            <a:off x="4716360" y="4005360"/>
            <a:ext cx="1108800" cy="902520"/>
            <a:chOff x="4716360" y="4005360"/>
            <a:chExt cx="1108800" cy="902520"/>
          </a:xfrm>
        </p:grpSpPr>
        <p:sp>
          <p:nvSpPr>
            <p:cNvPr id="699" name="Arc 19"/>
            <p:cNvSpPr/>
            <p:nvPr/>
          </p:nvSpPr>
          <p:spPr>
            <a:xfrm>
              <a:off x="4716360" y="4005360"/>
              <a:ext cx="720720" cy="504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3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702" name="Picture 25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26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30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705" name="Picture 28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29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9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708" name="Picture 31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32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35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711" name="Picture 33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34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52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714" name="Picture 36" descr=""/>
            <p:cNvPicPr/>
            <p:nvPr/>
          </p:nvPicPr>
          <p:blipFill>
            <a:blip r:embed="rId8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37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50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717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718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" name="Picture 45" descr=""/>
              <p:cNvPicPr/>
              <p:nvPr/>
            </p:nvPicPr>
            <p:blipFill>
              <a:blip r:embed="rId10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Text Box 41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723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724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21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22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35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6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1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2" name="Picture 52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his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osee acción vasodilatadora, disminuye la presión sanguínea, colabora en la constricción de los bronquiolos, estimula la producción de HCl y estimula la pepsina en e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mago, se libera bruscamente en respuesta  al ingreso de sustancias alérgenas en los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iramina y trip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on sustancias vasoconstrictor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cido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-aminob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rico (GABA)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s un compuesto funcionalmente muy importante, ya que es un intermediario químico  regulador de la actividad neuronal, actuando como inhibidor o depresor de la transmisión del impulso nerv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s catecolami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Dopamina, Noradrenalina y Adrenal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e producen en el sistema nervioso y en la medula adrenal. Son vasoconstrictores en algunos tejidos y vasodilatadores en otros, aumentan la frecuencia cardíaca, son relajantes del músculo bronquial, estimulan la glucógenolisis en músculo y la lipólisis en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8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49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3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6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22200" y="1192320"/>
            <a:ext cx="446256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3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192320"/>
            <a:ext cx="367200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4" name="Cuadro de texto 10"/>
          <p:cNvSpPr/>
          <p:nvPr/>
        </p:nvSpPr>
        <p:spPr>
          <a:xfrm>
            <a:off x="1757520" y="1258920"/>
            <a:ext cx="143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Cuadro de texto 11"/>
          <p:cNvSpPr/>
          <p:nvPr/>
        </p:nvSpPr>
        <p:spPr>
          <a:xfrm>
            <a:off x="2852640" y="232740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Cuadro de texto 12"/>
          <p:cNvSpPr/>
          <p:nvPr/>
        </p:nvSpPr>
        <p:spPr>
          <a:xfrm>
            <a:off x="735120" y="2041560"/>
            <a:ext cx="107928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Cuadro de texto 13"/>
          <p:cNvSpPr/>
          <p:nvPr/>
        </p:nvSpPr>
        <p:spPr>
          <a:xfrm>
            <a:off x="6335640" y="2408400"/>
            <a:ext cx="1224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Cuadro de texto 14"/>
          <p:cNvSpPr/>
          <p:nvPr/>
        </p:nvSpPr>
        <p:spPr>
          <a:xfrm>
            <a:off x="6948360" y="2773440"/>
            <a:ext cx="1393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Cuadro de texto 15"/>
          <p:cNvSpPr/>
          <p:nvPr/>
        </p:nvSpPr>
        <p:spPr>
          <a:xfrm>
            <a:off x="1401840" y="3621240"/>
            <a:ext cx="2160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Cuadro de texto 17"/>
          <p:cNvSpPr/>
          <p:nvPr/>
        </p:nvSpPr>
        <p:spPr>
          <a:xfrm>
            <a:off x="2852640" y="4807080"/>
            <a:ext cx="172728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Cuadro de texto 18"/>
          <p:cNvSpPr/>
          <p:nvPr/>
        </p:nvSpPr>
        <p:spPr>
          <a:xfrm>
            <a:off x="5940360" y="512748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1 Rectángulo"/>
          <p:cNvSpPr/>
          <p:nvPr/>
        </p:nvSpPr>
        <p:spPr>
          <a:xfrm>
            <a:off x="14400" y="566100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ta combinación es una reserva energética de ATP en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777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 AMONIACO  Ó  ION AMONIO ES TOX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n de: Glicerato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ó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6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782" name="Picture 4" descr="germinacion2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5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s-AR" sz="2400" spc="-1" strike="noStrike">
                  <a:solidFill>
                    <a:srgbClr val="008000"/>
                  </a:solidFill>
                  <a:latin typeface="Arial"/>
                </a:rPr>
                <a:t>sucede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aminoácidos en las plantas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85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0" name="Picture 13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1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7"/>
          <p:cNvSpPr/>
          <p:nvPr/>
        </p:nvSpPr>
        <p:spPr>
          <a:xfrm>
            <a:off x="1375200" y="2708280"/>
            <a:ext cx="642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Recordemos como funciona el Ciclo del N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n la naturale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795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802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13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805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808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811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Oval 22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25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817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27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28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29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30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31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32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33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34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35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36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14" descr="nodule_structure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4339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5" descr="bacteroides-jovenes"/>
          <p:cNvPicPr/>
          <p:nvPr/>
        </p:nvPicPr>
        <p:blipFill>
          <a:blip r:embed="rId2"/>
          <a:stretch/>
        </p:blipFill>
        <p:spPr>
          <a:xfrm>
            <a:off x="4067280" y="3429000"/>
            <a:ext cx="4608360" cy="306216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" descr="fig5"/>
          <p:cNvPicPr/>
          <p:nvPr/>
        </p:nvPicPr>
        <p:blipFill>
          <a:blip r:embed="rId3"/>
          <a:stretch/>
        </p:blipFill>
        <p:spPr>
          <a:xfrm>
            <a:off x="395280" y="981000"/>
            <a:ext cx="5054760" cy="227340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4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8"/>
          <p:cNvSpPr/>
          <p:nvPr/>
        </p:nvSpPr>
        <p:spPr>
          <a:xfrm>
            <a:off x="5623920" y="9810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7506720" y="981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"/>
          <p:cNvSpPr/>
          <p:nvPr/>
        </p:nvSpPr>
        <p:spPr>
          <a:xfrm>
            <a:off x="6259680" y="1197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6"/>
          <p:cNvSpPr/>
          <p:nvPr/>
        </p:nvSpPr>
        <p:spPr>
          <a:xfrm>
            <a:off x="4500720" y="765000"/>
            <a:ext cx="0" cy="1368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7"/>
          <p:cNvSpPr/>
          <p:nvPr/>
        </p:nvSpPr>
        <p:spPr>
          <a:xfrm flipH="1" flipV="1">
            <a:off x="5076720" y="1557360"/>
            <a:ext cx="719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8"/>
          <p:cNvSpPr/>
          <p:nvPr/>
        </p:nvSpPr>
        <p:spPr>
          <a:xfrm>
            <a:off x="5796000" y="1916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acteria, u otro microorganismo en asociación simbiótica con r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3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pic>
          <p:nvPicPr>
            <p:cNvPr id="839" name="Picture 4" descr="fig8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820836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 Box 5"/>
            <p:cNvSpPr/>
            <p:nvPr/>
          </p:nvSpPr>
          <p:spPr>
            <a:xfrm>
              <a:off x="7209720" y="4569840"/>
              <a:ext cx="37548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NH</a:t>
              </a:r>
              <a:r>
                <a:rPr b="1" lang="es-ES_tradnl" sz="1400" spc="-1" strike="noStrike" baseline="-25000">
                  <a:solidFill>
                    <a:srgbClr val="0033cc"/>
                  </a:solidFill>
                  <a:latin typeface="Arial"/>
                </a:rPr>
                <a:t>4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 Box 6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7017120" y="4270320"/>
            <a:ext cx="10296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it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3288960" y="7794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131800" y="765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0"/>
          <p:cNvSpPr/>
          <p:nvPr/>
        </p:nvSpPr>
        <p:spPr>
          <a:xfrm>
            <a:off x="3997440" y="981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3638160" y="35733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8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0520" y="5684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ción de CH (Ej. Glu y F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5"/>
          <p:cNvSpPr/>
          <p:nvPr/>
        </p:nvSpPr>
        <p:spPr>
          <a:xfrm>
            <a:off x="127080" y="549360"/>
            <a:ext cx="3456000" cy="934920"/>
          </a:xfrm>
          <a:prstGeom prst="downArrowCallout">
            <a:avLst>
              <a:gd name="adj1" fmla="val 49429"/>
              <a:gd name="adj2" fmla="val 42202"/>
              <a:gd name="adj3" fmla="val 18236"/>
              <a:gd name="adj4" fmla="val 50000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1450440" y="15764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7"/>
          <p:cNvSpPr/>
          <p:nvPr/>
        </p:nvSpPr>
        <p:spPr>
          <a:xfrm>
            <a:off x="1784520" y="2638440"/>
            <a:ext cx="358560" cy="934920"/>
          </a:xfrm>
          <a:prstGeom prst="downArrow">
            <a:avLst>
              <a:gd name="adj1" fmla="val 50000"/>
              <a:gd name="adj2" fmla="val 651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8"/>
          <p:cNvSpPr/>
          <p:nvPr/>
        </p:nvSpPr>
        <p:spPr>
          <a:xfrm>
            <a:off x="472680" y="35672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rc 9"/>
          <p:cNvSpPr/>
          <p:nvPr/>
        </p:nvSpPr>
        <p:spPr>
          <a:xfrm>
            <a:off x="277344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569520" y="50068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rc 11"/>
          <p:cNvSpPr/>
          <p:nvPr/>
        </p:nvSpPr>
        <p:spPr>
          <a:xfrm>
            <a:off x="464508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rc 12"/>
          <p:cNvSpPr/>
          <p:nvPr/>
        </p:nvSpPr>
        <p:spPr>
          <a:xfrm flipH="1">
            <a:off x="3204360" y="379260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3"/>
          <p:cNvSpPr/>
          <p:nvPr/>
        </p:nvSpPr>
        <p:spPr>
          <a:xfrm>
            <a:off x="3423960" y="35733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4"/>
          <p:cNvSpPr/>
          <p:nvPr/>
        </p:nvSpPr>
        <p:spPr>
          <a:xfrm>
            <a:off x="3423960" y="48690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rc 15"/>
          <p:cNvSpPr/>
          <p:nvPr/>
        </p:nvSpPr>
        <p:spPr>
          <a:xfrm flipH="1">
            <a:off x="5076000" y="378936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6"/>
          <p:cNvSpPr/>
          <p:nvPr/>
        </p:nvSpPr>
        <p:spPr>
          <a:xfrm>
            <a:off x="5324040" y="35002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>
            <a:off x="5324040" y="4948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8"/>
          <p:cNvSpPr/>
          <p:nvPr/>
        </p:nvSpPr>
        <p:spPr>
          <a:xfrm flipV="1">
            <a:off x="5076720" y="3427200"/>
            <a:ext cx="0" cy="2089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"/>
          <p:cNvSpPr/>
          <p:nvPr/>
        </p:nvSpPr>
        <p:spPr>
          <a:xfrm>
            <a:off x="4623120" y="5516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0"/>
          <p:cNvSpPr/>
          <p:nvPr/>
        </p:nvSpPr>
        <p:spPr>
          <a:xfrm>
            <a:off x="4212000" y="3068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ADP + 16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rc 21"/>
          <p:cNvSpPr/>
          <p:nvPr/>
        </p:nvSpPr>
        <p:spPr>
          <a:xfrm>
            <a:off x="7021440" y="3716280"/>
            <a:ext cx="43200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rc 22"/>
          <p:cNvSpPr/>
          <p:nvPr/>
        </p:nvSpPr>
        <p:spPr>
          <a:xfrm flipH="1">
            <a:off x="7452720" y="371952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795080" y="3500280"/>
            <a:ext cx="11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10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7537680" y="4933800"/>
            <a:ext cx="147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25"/>
          <p:cNvSpPr/>
          <p:nvPr/>
        </p:nvSpPr>
        <p:spPr>
          <a:xfrm rot="5400000">
            <a:off x="5580720" y="45000"/>
            <a:ext cx="431640" cy="590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4213080" y="24145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COMPLEJO 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7"/>
          <p:cNvSpPr/>
          <p:nvPr/>
        </p:nvSpPr>
        <p:spPr>
          <a:xfrm>
            <a:off x="8101080" y="5300640"/>
            <a:ext cx="0" cy="649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7021440" y="60213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MINOA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3051360" y="14590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0"/>
          <p:cNvSpPr/>
          <p:nvPr/>
        </p:nvSpPr>
        <p:spPr>
          <a:xfrm>
            <a:off x="1046520" y="2133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avodoxin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1"/>
          <p:cNvSpPr/>
          <p:nvPr/>
        </p:nvSpPr>
        <p:spPr>
          <a:xfrm>
            <a:off x="2860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2"/>
          <p:cNvSpPr/>
          <p:nvPr/>
        </p:nvSpPr>
        <p:spPr>
          <a:xfrm>
            <a:off x="472284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3"/>
          <p:cNvSpPr/>
          <p:nvPr/>
        </p:nvSpPr>
        <p:spPr>
          <a:xfrm>
            <a:off x="7108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878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879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886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13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889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892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895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Oval 22"/>
          <p:cNvSpPr/>
          <p:nvPr/>
        </p:nvSpPr>
        <p:spPr>
          <a:xfrm rot="17493000">
            <a:off x="1146240" y="514152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25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901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 Box 27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28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9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30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31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2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33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34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35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36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"/>
          <p:cNvPicPr/>
          <p:nvPr/>
        </p:nvPicPr>
        <p:blipFill>
          <a:blip r:embed="rId1"/>
          <a:stretch/>
        </p:blipFill>
        <p:spPr>
          <a:xfrm>
            <a:off x="1981080" y="426960"/>
            <a:ext cx="5562720" cy="490716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6"/>
          <p:cNvSpPr/>
          <p:nvPr/>
        </p:nvSpPr>
        <p:spPr>
          <a:xfrm>
            <a:off x="930240" y="5516640"/>
            <a:ext cx="774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a absorción d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esta mediada por un mecanismo de simporte 2H</a:t>
            </a:r>
            <a:r>
              <a:rPr b="1" lang="en-US" sz="2000" spc="-1" strike="noStrike" baseline="30000">
                <a:solidFill>
                  <a:srgbClr val="ff6600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/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112" name="Group 3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113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5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6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7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Rectangle 8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1" name="Group 1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2" name="Rectangle 1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1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Picture 1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Text Box 1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9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5"/>
          <p:cNvSpPr/>
          <p:nvPr/>
        </p:nvSpPr>
        <p:spPr>
          <a:xfrm>
            <a:off x="1303920" y="26028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2062440" y="254808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43"/>
          <p:cNvGrpSpPr/>
          <p:nvPr/>
        </p:nvGrpSpPr>
        <p:grpSpPr>
          <a:xfrm>
            <a:off x="5316840" y="2529000"/>
            <a:ext cx="1911240" cy="510120"/>
            <a:chOff x="5316840" y="2529000"/>
            <a:chExt cx="1911240" cy="510120"/>
          </a:xfrm>
        </p:grpSpPr>
        <p:sp>
          <p:nvSpPr>
            <p:cNvPr id="918" name="Text Box 16"/>
            <p:cNvSpPr/>
            <p:nvPr/>
          </p:nvSpPr>
          <p:spPr>
            <a:xfrm>
              <a:off x="5316840" y="252900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6227640" y="2529000"/>
              <a:ext cx="100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42"/>
          <p:cNvGrpSpPr/>
          <p:nvPr/>
        </p:nvGrpSpPr>
        <p:grpSpPr>
          <a:xfrm>
            <a:off x="2643840" y="2449440"/>
            <a:ext cx="2921040" cy="1126080"/>
            <a:chOff x="2643840" y="2449440"/>
            <a:chExt cx="2921040" cy="1126080"/>
          </a:xfrm>
        </p:grpSpPr>
        <p:grpSp>
          <p:nvGrpSpPr>
            <p:cNvPr id="921" name="Group 11"/>
            <p:cNvGrpSpPr/>
            <p:nvPr/>
          </p:nvGrpSpPr>
          <p:grpSpPr>
            <a:xfrm>
              <a:off x="3070800" y="2889000"/>
              <a:ext cx="2089080" cy="360360"/>
              <a:chOff x="3070800" y="2889000"/>
              <a:chExt cx="2089080" cy="360360"/>
            </a:xfrm>
          </p:grpSpPr>
          <p:sp>
            <p:nvSpPr>
              <p:cNvPr id="922" name="Arc 9"/>
              <p:cNvSpPr/>
              <p:nvPr/>
            </p:nvSpPr>
            <p:spPr>
              <a:xfrm flipH="1" rot="5400000">
                <a:off x="3898800" y="2350800"/>
                <a:ext cx="360360" cy="1436760"/>
              </a:xfrm>
              <a:custGeom>
                <a:avLst/>
                <a:gdLst/>
                <a:ahLst/>
                <a:rect l="l" t="t" r="r" b="b"/>
                <a:pathLst>
                  <a:path fill="none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</a:path>
                  <a:path stroke="0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0000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10"/>
              <p:cNvSpPr/>
              <p:nvPr/>
            </p:nvSpPr>
            <p:spPr>
              <a:xfrm>
                <a:off x="3070800" y="2889360"/>
                <a:ext cx="2089080" cy="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Text Box 18"/>
            <p:cNvSpPr/>
            <p:nvPr/>
          </p:nvSpPr>
          <p:spPr>
            <a:xfrm>
              <a:off x="2643840" y="317664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H + H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"/>
            <p:cNvSpPr/>
            <p:nvPr/>
          </p:nvSpPr>
          <p:spPr>
            <a:xfrm>
              <a:off x="4404240" y="317664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1"/>
            <p:cNvSpPr/>
            <p:nvPr/>
          </p:nvSpPr>
          <p:spPr>
            <a:xfrm>
              <a:off x="3074400" y="24494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a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22"/>
          <p:cNvSpPr/>
          <p:nvPr/>
        </p:nvSpPr>
        <p:spPr>
          <a:xfrm>
            <a:off x="408240" y="47721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3"/>
          <p:cNvSpPr/>
          <p:nvPr/>
        </p:nvSpPr>
        <p:spPr>
          <a:xfrm>
            <a:off x="1202400" y="4772160"/>
            <a:ext cx="201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2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4"/>
          <p:cNvGrpSpPr/>
          <p:nvPr/>
        </p:nvGrpSpPr>
        <p:grpSpPr>
          <a:xfrm>
            <a:off x="3274920" y="4575240"/>
            <a:ext cx="2309760" cy="1080720"/>
            <a:chOff x="3274920" y="4575240"/>
            <a:chExt cx="2309760" cy="1080720"/>
          </a:xfrm>
        </p:grpSpPr>
        <p:sp>
          <p:nvSpPr>
            <p:cNvPr id="930" name="Line 26"/>
            <p:cNvSpPr/>
            <p:nvPr/>
          </p:nvSpPr>
          <p:spPr>
            <a:xfrm>
              <a:off x="3274920" y="5013360"/>
              <a:ext cx="2309760" cy="144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7"/>
            <p:cNvSpPr/>
            <p:nvPr/>
          </p:nvSpPr>
          <p:spPr>
            <a:xfrm>
              <a:off x="3277080" y="457524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i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8"/>
            <p:cNvSpPr/>
            <p:nvPr/>
          </p:nvSpPr>
          <p:spPr>
            <a:xfrm>
              <a:off x="3572280" y="50133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LU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Ferredox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 Box 30"/>
          <p:cNvSpPr/>
          <p:nvPr/>
        </p:nvSpPr>
        <p:spPr>
          <a:xfrm>
            <a:off x="5580000" y="4772160"/>
            <a:ext cx="338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1.5 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45"/>
          <p:cNvGrpSpPr/>
          <p:nvPr/>
        </p:nvGrpSpPr>
        <p:grpSpPr>
          <a:xfrm>
            <a:off x="5195880" y="5380200"/>
            <a:ext cx="1895400" cy="1363320"/>
            <a:chOff x="5195880" y="5380200"/>
            <a:chExt cx="1895400" cy="1363320"/>
          </a:xfrm>
        </p:grpSpPr>
        <p:sp>
          <p:nvSpPr>
            <p:cNvPr id="935" name="Line 31"/>
            <p:cNvSpPr/>
            <p:nvPr/>
          </p:nvSpPr>
          <p:spPr>
            <a:xfrm>
              <a:off x="6084720" y="5380200"/>
              <a:ext cx="0" cy="64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32"/>
            <p:cNvSpPr/>
            <p:nvPr/>
          </p:nvSpPr>
          <p:spPr>
            <a:xfrm>
              <a:off x="5195880" y="610092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MINOA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Text Box 34"/>
          <p:cNvSpPr/>
          <p:nvPr/>
        </p:nvSpPr>
        <p:spPr>
          <a:xfrm>
            <a:off x="324720" y="213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35"/>
          <p:cNvSpPr/>
          <p:nvPr/>
        </p:nvSpPr>
        <p:spPr>
          <a:xfrm>
            <a:off x="394200" y="59500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Cloroplastos o Protoplast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0"/>
          <p:cNvGrpSpPr/>
          <p:nvPr/>
        </p:nvGrpSpPr>
        <p:grpSpPr>
          <a:xfrm>
            <a:off x="1042920" y="2349360"/>
            <a:ext cx="5041800" cy="2374920"/>
            <a:chOff x="1042920" y="2349360"/>
            <a:chExt cx="5041800" cy="2374920"/>
          </a:xfrm>
        </p:grpSpPr>
        <p:sp>
          <p:nvSpPr>
            <p:cNvPr id="940" name="Oval 37"/>
            <p:cNvSpPr/>
            <p:nvPr/>
          </p:nvSpPr>
          <p:spPr>
            <a:xfrm>
              <a:off x="5292720" y="2349360"/>
              <a:ext cx="792000" cy="863640"/>
            </a:xfrm>
            <a:prstGeom prst="ellipse">
              <a:avLst/>
            </a:prstGeom>
            <a:noFill/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38"/>
            <p:cNvSpPr/>
            <p:nvPr/>
          </p:nvSpPr>
          <p:spPr>
            <a:xfrm flipH="1">
              <a:off x="1042920" y="3213000"/>
              <a:ext cx="4681440" cy="15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41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943" name="Line 33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39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946" name="Text Box 6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7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18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950" name="Picture 4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Line 9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0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1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2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14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5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16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17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Text Box 19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0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63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64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8" name="Picture 27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9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Line 15"/>
          <p:cNvSpPr/>
          <p:nvPr/>
        </p:nvSpPr>
        <p:spPr>
          <a:xfrm>
            <a:off x="4932360" y="61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7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7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ángulo 1"/>
          <p:cNvSpPr/>
          <p:nvPr/>
        </p:nvSpPr>
        <p:spPr>
          <a:xfrm>
            <a:off x="1187280" y="1720800"/>
            <a:ext cx="748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CTORES Y MECANISMOS DE DETERIOR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ardeamiento no enzimá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ividad de enzimas na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xidación de líp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acciones de hidróli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recimiento y actividad microbi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emperatura, luz, O2, pH, humedad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sectos, parásitos y ro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general operan en forma simultánea o suces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8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8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ángulo 1"/>
          <p:cNvSpPr/>
          <p:nvPr/>
        </p:nvSpPr>
        <p:spPr>
          <a:xfrm>
            <a:off x="539640" y="22748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ARDEAMIENTO NO ENZIMÁ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 un conjunto de reacciones muy complejas que conducen, en diversos alimentos, a la formación de pigmentos pardos y negros (melanoidinas) y a modificaciones favorables o no del olor y sab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9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9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9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9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0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0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1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1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2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3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10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3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144" name="Rectangle 14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6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147" name="Line 17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8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9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150" name="Line 20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21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Rectangle 22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3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155" name="Group 25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156" name="Line 26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27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s-ES_tradnl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8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159" name="Line 29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30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31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4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5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166" name="Rectangle 36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7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8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9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3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4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4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5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5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6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6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7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7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12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7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0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no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180" name="Object 12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13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184" name="Group 15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185" name="Group 16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186" name="Rectangle 17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8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9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20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21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2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3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4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5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26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7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28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9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30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31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2"/>
          <p:cNvGrpSpPr/>
          <p:nvPr/>
        </p:nvGrpSpPr>
        <p:grpSpPr>
          <a:xfrm>
            <a:off x="3276720" y="2066760"/>
            <a:ext cx="2160360" cy="1621800"/>
            <a:chOff x="3276720" y="2066760"/>
            <a:chExt cx="2160360" cy="1621800"/>
          </a:xfrm>
        </p:grpSpPr>
        <p:sp>
          <p:nvSpPr>
            <p:cNvPr id="202" name="Line 33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rc 36"/>
            <p:cNvSpPr/>
            <p:nvPr/>
          </p:nvSpPr>
          <p:spPr>
            <a:xfrm>
              <a:off x="3635280" y="2781360"/>
              <a:ext cx="432000" cy="503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7"/>
            <p:cNvSpPr/>
            <p:nvPr/>
          </p:nvSpPr>
          <p:spPr>
            <a:xfrm rot="15012000">
              <a:off x="4685040" y="2819880"/>
              <a:ext cx="43200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40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1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211" name="Object 42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2" name="Object 4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Text Box 43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4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215" name="Line 45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6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7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rc 48"/>
            <p:cNvSpPr/>
            <p:nvPr/>
          </p:nvSpPr>
          <p:spPr>
            <a:xfrm>
              <a:off x="3562200" y="5079960"/>
              <a:ext cx="432000" cy="502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rc 49"/>
            <p:cNvSpPr/>
            <p:nvPr/>
          </p:nvSpPr>
          <p:spPr>
            <a:xfrm rot="15012000">
              <a:off x="4612320" y="5118120"/>
              <a:ext cx="43164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0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51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2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223" name="Group 53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224" name="Group 54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225" name="Rectangle 55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56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57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58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59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60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61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62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63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64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65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66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67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8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69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0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71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72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Text Box 73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74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75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4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4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256" name="Picture 12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3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4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8"/>
          <p:cNvGrpSpPr/>
          <p:nvPr/>
        </p:nvGrpSpPr>
        <p:grpSpPr>
          <a:xfrm>
            <a:off x="820800" y="5032440"/>
            <a:ext cx="2454480" cy="557280"/>
            <a:chOff x="820800" y="5032440"/>
            <a:chExt cx="2454480" cy="557280"/>
          </a:xfrm>
        </p:grpSpPr>
        <p:sp>
          <p:nvSpPr>
            <p:cNvPr id="263" name="Line 19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874080" y="5032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Arial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3367080" y="5013360"/>
            <a:ext cx="3180960" cy="576360"/>
            <a:chOff x="3367080" y="5013360"/>
            <a:chExt cx="3180960" cy="576360"/>
          </a:xfrm>
        </p:grpSpPr>
        <p:sp>
          <p:nvSpPr>
            <p:cNvPr id="266" name="Line 22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4233600" y="501336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6599160" y="5013360"/>
            <a:ext cx="1570680" cy="576360"/>
            <a:chOff x="6599160" y="5013360"/>
            <a:chExt cx="1570680" cy="576360"/>
          </a:xfrm>
        </p:grpSpPr>
        <p:sp>
          <p:nvSpPr>
            <p:cNvPr id="270" name="Line 26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8"/>
            <p:cNvSpPr/>
            <p:nvPr/>
          </p:nvSpPr>
          <p:spPr>
            <a:xfrm>
              <a:off x="7381080" y="5013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Oval 29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3462480" y="360036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7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7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285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6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1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9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0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41"/>
          <p:cNvGrpSpPr/>
          <p:nvPr/>
        </p:nvGrpSpPr>
        <p:grpSpPr>
          <a:xfrm>
            <a:off x="3132000" y="3789360"/>
            <a:ext cx="3095640" cy="3068280"/>
            <a:chOff x="3132000" y="3789360"/>
            <a:chExt cx="3095640" cy="3068280"/>
          </a:xfrm>
        </p:grpSpPr>
        <p:sp>
          <p:nvSpPr>
            <p:cNvPr id="315" name="Rectangle 42"/>
            <p:cNvSpPr/>
            <p:nvPr/>
          </p:nvSpPr>
          <p:spPr>
            <a:xfrm>
              <a:off x="4427640" y="378936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3"/>
            <p:cNvSpPr/>
            <p:nvPr/>
          </p:nvSpPr>
          <p:spPr>
            <a:xfrm>
              <a:off x="3132000" y="493272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43"/>
          <p:cNvSpPr/>
          <p:nvPr/>
        </p:nvSpPr>
        <p:spPr>
          <a:xfrm>
            <a:off x="6227640" y="1765440"/>
            <a:ext cx="2895840" cy="50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2:43:58Z</dcterms:created>
  <dc:creator>Colossus User</dc:creator>
  <dc:description/>
  <dc:language>en-US</dc:language>
  <cp:lastModifiedBy>Ana</cp:lastModifiedBy>
  <dcterms:modified xsi:type="dcterms:W3CDTF">2016-09-29T18:16:32Z</dcterms:modified>
  <cp:revision>40</cp:revision>
  <dc:subject/>
  <dc:title>METABOLISMO DE AMINOACIDOS (Bolilla 9)</dc:title>
</cp:coreProperties>
</file>